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4BE0-AF87-43D8-BEEF-B342C9FFE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Date Placeholder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lide Number Placeholder 4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F1AC-4013-47A9-9405-A3340E97F1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Header Placeholder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Date Placeholder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lide Number Placeholder 4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F913-BDF9-4FB4-B7AF-8489C98000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Header Placeholder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Date Placeholder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4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33C8-8A00-4AED-A6ED-DBC381722B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Header Placeholder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Date Placeholder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lide Number Placeholder 4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FC9E-3672-4F46-AC30-BE476F54C8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Header Placeholder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Date Placeholder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ACD1-27F4-4A5A-B440-9D75087A58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Header Placeholder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Date Placeholder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lide Number Placeholder 4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64FF-D4D2-4181-BBF7-C07F4C7917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Header Placeholder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Date Placeholder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lide Number Placeholder 4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10F4-06DD-4210-90B9-13C4F9F83B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Header Placeholder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Date Placeholder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lide Number Placeholder 4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389A-0451-442B-8B15-92DAAB5536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Header Placeholder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Date Placeholder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8912-EBC5-4D91-8770-A510BEF748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Header Placeholder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Date Placeholder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DC1F-B584-47AB-B37D-4C97F6E976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Header Placeholder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6108-6E00-4461-8329-7567E0413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F817-57CE-40C5-BB61-5633978A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2D0EF4-F3AD-45C1-B29B-8A3D3BF9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CF171-B011-4C85-B7C7-94BEC3BE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F97AC-1398-4624-A31B-024A97C5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94B94-AFBD-46AA-91E0-1A9C281C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4E9FB-C17C-4AE3-810C-14E61066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6D0D7-63F1-4388-ABDB-E4166DEA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C3452-46D0-4F74-8383-7D0BA06E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0EF4F-331C-4761-A186-C9429E49E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26402-604A-4607-8036-3856290C2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7059BE-39E8-47A1-95DC-8D5156A45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CDF8-3F25-4734-8931-AC6DEA386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72188A-8B2D-4FD1-96AB-46A29FDF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12A58E-DFBD-4A5D-91DD-681973F7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E7AAB2-6E52-4446-A7B7-F6DC2CE7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FF1C8-9221-482E-ABE6-0672B0D2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48B040-C95E-4883-8902-96F2100C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4D01F2-CFAA-41B5-A9B3-C15309AB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4DCB5-6043-4F39-B887-AAFBEE03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06CC2-E16A-4D3A-A472-4BBB5683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237B8-4EDA-4358-8BF8-F5ED7A18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D036DC-824C-426B-9D73-2BD63583F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B103-8A3D-4025-8863-013D5AEA4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F44B7C-DD24-4CF1-BFC0-6BDF99E50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6D5D1-5625-4A65-8608-AA0B0458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78BC4-7329-4FC2-AA4F-02E4B1C1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8A5AA-F8C5-4076-88FF-FDF31840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6B92A-58CF-48D3-A376-C20677EC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96D43-F10A-4FE2-8157-C2736931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A3ACA-D4E0-4A8C-B1C3-E43F9BAA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3FD52-0F1B-4DEE-975D-D1CC5F38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30193-DDA9-4A6F-A82C-72F2FDD8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3E9D2-AFA5-416A-8812-3D7E364C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CFB4-9A2B-4540-A77C-72793DA3B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A018D-4AB1-469B-9922-89D7D35C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AC08B-E496-4725-922B-4B49B001E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0B2DE-59A9-499F-A1CD-D8524C77B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101DDC-0825-4451-BAB0-8BAB5D922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CFCCAD-2C81-458D-B95D-2941D7BC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6EC303-5CD6-4FF0-92ED-684083B9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090B53-57AF-4020-B883-5581A336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4559FE-E321-4584-BE39-176F3B5C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06AFD9-C777-4469-93A4-5A1FF5DF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814609-36CC-4DCE-ADD4-20F9C549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834F-B0F2-442C-87B3-114F065A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5C05F4-7F62-4B5F-94A3-C6923B06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7E26BD-DC75-4054-AE37-0961D887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CC609A-A9C2-47D6-8769-DD7000A7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71EC53-5B25-4762-95BE-FCE53800A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1D3B61-A0FD-4106-940C-F0B9E119E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E8C311-B7C2-4B84-823F-0F11C1C2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9E1D0E-E27D-4617-97B0-61F5F6A5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A2BA39-85C6-413F-A575-8FBD46AD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945668-7818-4636-8C7E-29429237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7ECBDE-D304-4277-99B6-D9542E75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7DBC-0230-4DCE-BD6C-8176F235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539448-1E1F-4876-A14F-16CAF256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E03725-CDE2-4277-8987-C8DE106D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4B945E-718D-404E-B07B-58D5B9C6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38D3C0-D831-442F-8E50-D528A540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16F6E0-6632-4A07-9DE4-5D3DBBEF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F4C0EB-F1E6-43D6-A60F-B93617CD8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7AEB6B-F281-44A2-A6C5-11B78E1FB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456A-A5F0-408E-A7B0-F3AF68A3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DF9F-A95B-4783-A312-F9CBC3E2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6188-B587-4544-B461-282A1F27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09CA-6306-4547-97DC-9FE4AC0D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7B77-4C0E-4E3C-A057-FDEC2733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6FA5-19EE-4A21-B25A-B3504E17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033E-707F-4FFB-A85B-3A9ECC6A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A704-D5C7-4E15-ABB0-A97417E0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FC15-E426-415A-9D8B-DE059913A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A5C4-9258-419A-A1F0-701456A45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5D2A5-BDD7-4A7F-ADA9-1FF19712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FCFAB-68CA-4AC5-8981-99B9ECE1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A7F82-AED7-4EA8-942D-251ACF94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D73FA-A3DE-4D1C-8669-11EB86DB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50C99-95C0-4B82-A470-A82B42C0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C41E-ED51-48A2-9C9D-14454BDF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83045-F3EC-4B7C-AABC-7F46BD1F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C9780-FEFF-4E53-BD69-A8C20B3C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78D08-8107-4F0C-AF3D-E7652CB9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146D6-1AE8-4866-9453-459BDE23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AC7B4-D3F4-443E-A2B3-022DBA27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A3182-87B8-460C-813F-3F2DF81FA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01A61-893B-4086-8E38-332EE1874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95D42-0103-45F0-8ACF-7BF648CC1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16B2B-58D5-4238-99D5-F1D6DE88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1B97A-3401-41AA-AC45-AB0DAB22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2ADA-FBA0-463E-A868-8C2D23C6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FB0FC-2876-486C-B358-E42F7F2C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086E5-0DCB-4499-B276-781591CD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844D0-0871-44D7-9A12-2AE06B05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9C2EE-AF62-40BE-8392-73683B00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417C3-3D4C-4358-8C14-E469221C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F89C0-767F-43CB-AF6A-D66E8041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2EC40-002F-4380-9134-7EE2999F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2725B-5871-42AA-91B4-2ABE27AEE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FF9DD-7476-4452-8232-A38AC881C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B6424-D01C-45E7-BDDE-E36A10B55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BBB8-4414-4081-807F-48FD6BD4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F33D1-F190-41E0-8A80-D028B97A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E8EC7-979D-4075-B6B1-1AB41F37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C9FE2-6956-4A5E-9DED-116A5819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74703-D769-4FBE-A6AF-ED029461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9F7CB-B34C-4814-97E7-5CB0BA64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394B6-D328-469B-83C9-86A3DEA9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9BFD8-4ACA-4A03-B512-3283ED70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F6BBC-6BF4-454B-8739-32EC4320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B9E24-46FB-46E0-A4DE-8064E1C8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6CA2B-D02F-42D0-86E4-5A212EF49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7E70-80BF-465C-A3E2-C1BDA7FA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9E4C3-3169-46F7-95E4-74CE37D77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FE3B5-FCFF-421E-9C7B-93F7CD731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1A6C8-D991-4D00-B2E0-6D574651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B6C43-90C8-400C-8315-3C87FCCA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34595-EA63-4792-A1F2-46D7303C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07ACB-9542-4872-877E-E6B2BAD3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0BCF9-BD37-4471-B57E-FA608816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E20EF-3C4F-49BE-959E-79D3EC16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5EE0F-EB4A-4C13-B160-0A8F9786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97163-96D9-4A85-A08C-7D7968EB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26A9-FD61-4C3C-BD7B-65A64887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9B5FF-0E6B-4FF6-8EBA-6AA433D0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16232-A762-4031-BEB5-0D5A74FB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CF5E1-6748-4B5A-9C71-0BCED4F72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8EF19-3827-4EF2-819E-FA659A960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BD441-F76D-4255-9DBC-2519774F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51E86-41E7-4065-9DC9-ED01FACE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F4F62-84DA-4858-A9D9-C71ED019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1184E-41D5-441A-AA41-7827D780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DC907-FA2A-4B26-968F-F022EB72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86A76-C0CA-4930-AC23-F0C3E71E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D0A8-A30A-4302-AE06-EAC24911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A4418-E1BB-4A93-8168-51F1B37E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AED56-D8E0-4233-81EB-2327B953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C3D8B-CC56-4F7D-AD5D-CDF9EF5A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52C16-0CB5-49CE-B4D2-F6F05F57D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E61D3-986D-424B-B2D3-4FB7DC622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E790E-B226-4197-9ADF-8BFEF7986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DC3EF-440F-4D08-A68B-D7F328D2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F3E37-1FA8-4E8A-B8A9-242C432F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C2E2A-009F-4478-B5F8-235190CF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77D9A-BB7D-4621-9B1F-67909AAA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5644-C7C3-47C9-8913-DDF25495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19318-1A44-4784-A2E9-59EE07E3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8BD1E-435E-4C02-B42C-0D20266D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91EA2-05A6-4C97-88D1-89CA124A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D9510-F135-49D8-8430-4BA20950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C9B85-F1DF-4ECF-8E35-FC409D0D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97614-D997-4875-ABED-B74F6EC65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CCCF7-E46F-4B2C-8B1B-448980E95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B6B3F-B399-4596-8650-8864E266D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BD2A4-6F42-4C74-B9AE-75E84C2F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F7618-B22B-48E2-A644-25A9A624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E4DF-D57F-4DA5-99E6-E3557CCE36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orkshop Consta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FB64-0A52-4DDF-9FFC-3DAC9D63D6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64DC-5FE9-40EB-9E36-89010E5FE5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FA89-AA83-43FD-BFAA-42E13A8A39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1743-80A1-4FDB-9C2D-E09DAF52D1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BD4F-4ECB-4411-9E2F-0A7A24986A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1C9A-02B7-4218-B02D-CA244CD6DA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F33F-4885-408B-B127-C2F002E52E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D3DA-4736-4920-BB9E-91E35B8EDB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56C7-9C20-4076-8CC2-4642476D6F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B63C-A683-4514-A7B9-683B601A52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9D2C-D1E8-4595-95AE-A17AF43D09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3819-6D79-4835-8AE2-1CC7FD6EDF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3140-8861-4535-8E75-B647BC40DD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BDC1-8B0A-4584-9097-763F01B984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EFF3-CA2B-475E-BE89-972EB75FA1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86B9-0912-4E92-AC38-F104832E1A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E735-3B9E-4C7B-B965-CF26CBEA01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35AC-DA44-429B-BDEE-0204E9473D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7C93-AB2A-40FD-B6BD-9588B689BA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3BC4-5223-4BCA-8E3F-7D1097C04B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A8FC-3639-4CDA-83F3-19CB8006F8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AB93-A38E-42B2-BCC0-4449BF803A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9D3C-C7EE-4444-BF40-B9F37B92D9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1224-905B-4E58-AFE3-14D7DBD6B3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40EC-5F93-45B6-8321-B74FBF1CBB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hyperlink" Target="http://www.interregrobg.eu/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hyperlink" Target="http://www.interregrobg.eu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9.png"/><Relationship Id="rId5" Type="http://schemas.openxmlformats.org/officeDocument/2006/relationships/hyperlink" Target="https://ems-robg.mdrap.ro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hyperlink" Target="https://www.youtube.com/watch?v=MryLtFjyJik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5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2"/>
          <p:cNvSpPr/>
          <p:nvPr/>
        </p:nvSpPr>
        <p:spPr>
          <a:xfrm>
            <a:off x="6896160" y="260280"/>
            <a:ext cx="1905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17" descr=""/>
          <p:cNvPicPr/>
          <p:nvPr/>
        </p:nvPicPr>
        <p:blipFill>
          <a:blip r:embed="rId1"/>
          <a:stretch/>
        </p:blipFill>
        <p:spPr>
          <a:xfrm>
            <a:off x="4151160" y="216000"/>
            <a:ext cx="1606680" cy="1171440"/>
          </a:xfrm>
          <a:prstGeom prst="rect">
            <a:avLst/>
          </a:prstGeom>
          <a:ln w="0">
            <a:noFill/>
          </a:ln>
        </p:spPr>
      </p:pic>
      <p:pic>
        <p:nvPicPr>
          <p:cNvPr id="546" name="Content Placeholder 11" descr=""/>
          <p:cNvPicPr/>
          <p:nvPr/>
        </p:nvPicPr>
        <p:blipFill>
          <a:blip r:embed="rId2"/>
          <a:stretch/>
        </p:blipFill>
        <p:spPr>
          <a:xfrm>
            <a:off x="6022800" y="216000"/>
            <a:ext cx="1447920" cy="11714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2" descr=""/>
          <p:cNvPicPr/>
          <p:nvPr/>
        </p:nvPicPr>
        <p:blipFill>
          <a:blip r:embed="rId3"/>
          <a:stretch/>
        </p:blipFill>
        <p:spPr>
          <a:xfrm>
            <a:off x="237960" y="223920"/>
            <a:ext cx="3780000" cy="9954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4" descr=""/>
          <p:cNvPicPr/>
          <p:nvPr/>
        </p:nvPicPr>
        <p:blipFill>
          <a:blip r:embed="rId4"/>
          <a:stretch/>
        </p:blipFill>
        <p:spPr>
          <a:xfrm>
            <a:off x="3610080" y="4267080"/>
            <a:ext cx="1923840" cy="876600"/>
          </a:xfrm>
          <a:prstGeom prst="rect">
            <a:avLst/>
          </a:prstGeom>
          <a:ln w="0">
            <a:noFill/>
          </a:ln>
        </p:spPr>
      </p:pic>
      <p:sp>
        <p:nvSpPr>
          <p:cNvPr id="549" name="Subtitle 2"/>
          <p:cNvSpPr/>
          <p:nvPr/>
        </p:nvSpPr>
        <p:spPr>
          <a:xfrm>
            <a:off x="376200" y="1986120"/>
            <a:ext cx="8458200" cy="21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Trebuchet MS"/>
                <a:ea typeface="Arial"/>
              </a:rPr>
              <a:t>Често задавани въпроси и искания относно еМ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  <a:ea typeface="Arial"/>
              </a:rPr>
              <a:t>17</a:t>
            </a:r>
            <a:r>
              <a:rPr b="1" lang="bg-BG" sz="1800" spc="-1" strike="noStrike" baseline="30000">
                <a:solidFill>
                  <a:srgbClr val="ff0000"/>
                </a:solidFill>
                <a:latin typeface="Trebuchet MS"/>
                <a:ea typeface="Arial"/>
              </a:rPr>
              <a:t>ти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  <a:ea typeface="Arial"/>
              </a:rPr>
              <a:t> </a:t>
            </a:r>
            <a:r>
              <a:rPr b="1" lang="bg-BG" sz="1800" spc="-1" strike="noStrike">
                <a:solidFill>
                  <a:srgbClr val="ff0000"/>
                </a:solidFill>
                <a:latin typeface="Trebuchet MS"/>
                <a:ea typeface="Arial"/>
              </a:rPr>
              <a:t>и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  <a:ea typeface="Arial"/>
              </a:rPr>
              <a:t> 24</a:t>
            </a:r>
            <a:r>
              <a:rPr b="1" lang="bg-BG" sz="1800" spc="-1" strike="noStrike" baseline="30000">
                <a:solidFill>
                  <a:srgbClr val="ff0000"/>
                </a:solidFill>
                <a:latin typeface="Trebuchet MS"/>
                <a:ea typeface="Arial"/>
              </a:rPr>
              <a:t>ти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  <a:ea typeface="Arial"/>
              </a:rPr>
              <a:t> </a:t>
            </a:r>
            <a:r>
              <a:rPr b="1" lang="bg-BG" sz="1800" spc="-1" strike="noStrike">
                <a:solidFill>
                  <a:srgbClr val="ff0000"/>
                </a:solidFill>
                <a:latin typeface="Trebuchet MS"/>
                <a:ea typeface="Arial"/>
              </a:rPr>
              <a:t>Ноември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  <a:ea typeface="Arial"/>
              </a:rPr>
              <a:t>, 2021, </a:t>
            </a:r>
            <a:r>
              <a:rPr b="1" lang="bg-BG" sz="1800" spc="-1" strike="noStrike">
                <a:solidFill>
                  <a:srgbClr val="ff0000"/>
                </a:solidFill>
                <a:latin typeface="Trebuchet MS"/>
                <a:ea typeface="Arial"/>
              </a:rPr>
              <a:t>Он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ff"/>
                </a:solidFill>
                <a:uFillTx/>
                <a:latin typeface="Trebuchet MS"/>
                <a:ea typeface="Arial"/>
                <a:hlinkClick r:id="rId5"/>
              </a:rPr>
              <a:t>www.interregrobg.eu</a:t>
            </a:r>
            <a:r>
              <a:rPr b="1" lang="ro-RO" sz="1800" spc="-1" strike="noStrike">
                <a:solidFill>
                  <a:srgbClr val="002060"/>
                </a:solidFill>
                <a:latin typeface="Trebuchet MS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2" descr=""/>
          <p:cNvPicPr/>
          <p:nvPr/>
        </p:nvPicPr>
        <p:blipFill>
          <a:blip r:embed="rId6"/>
          <a:stretch/>
        </p:blipFill>
        <p:spPr>
          <a:xfrm>
            <a:off x="7689960" y="236520"/>
            <a:ext cx="987480" cy="9698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1"/>
          <p:cNvSpPr/>
          <p:nvPr/>
        </p:nvSpPr>
        <p:spPr>
          <a:xfrm>
            <a:off x="333360" y="915840"/>
            <a:ext cx="83757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003366"/>
                </a:solidFill>
                <a:latin typeface="Trebuchet MS"/>
              </a:rPr>
              <a:t>Опитвам се да въведа информация отнасяща се до процедура за възлагане на обществена поръчка в секция „</a:t>
            </a:r>
            <a:r>
              <a:rPr b="1" lang="en-US" sz="1900" spc="-1" strike="noStrike">
                <a:solidFill>
                  <a:srgbClr val="003366"/>
                </a:solidFill>
                <a:latin typeface="Trebuchet MS"/>
              </a:rPr>
              <a:t>Supplementary Information - Project Procurements</a:t>
            </a:r>
            <a:r>
              <a:rPr b="1" lang="bg-BG" sz="1900" spc="-1" strike="noStrike">
                <a:solidFill>
                  <a:srgbClr val="003366"/>
                </a:solidFill>
                <a:latin typeface="Trebuchet MS"/>
              </a:rPr>
              <a:t>“, но получавам следната грешка                     като искам да запазя информацията</a:t>
            </a:r>
            <a:r>
              <a:rPr b="1" lang="en-US" sz="1900" spc="-1" strike="noStrike">
                <a:solidFill>
                  <a:srgbClr val="003366"/>
                </a:solidFill>
                <a:latin typeface="Trebuchet MS"/>
              </a:rPr>
              <a:t>: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4" descr=""/>
          <p:cNvPicPr/>
          <p:nvPr/>
        </p:nvPicPr>
        <p:blipFill>
          <a:blip r:embed="rId1"/>
          <a:stretch/>
        </p:blipFill>
        <p:spPr>
          <a:xfrm>
            <a:off x="457200" y="353880"/>
            <a:ext cx="2408400" cy="6336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5" descr=""/>
          <p:cNvPicPr/>
          <p:nvPr/>
        </p:nvPicPr>
        <p:blipFill>
          <a:blip r:embed="rId2"/>
          <a:stretch/>
        </p:blipFill>
        <p:spPr>
          <a:xfrm>
            <a:off x="387360" y="6119640"/>
            <a:ext cx="1341360" cy="60984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2" descr=""/>
          <p:cNvPicPr/>
          <p:nvPr/>
        </p:nvPicPr>
        <p:blipFill>
          <a:blip r:embed="rId3"/>
          <a:stretch/>
        </p:blipFill>
        <p:spPr>
          <a:xfrm>
            <a:off x="8381880" y="6119640"/>
            <a:ext cx="654120" cy="641520"/>
          </a:xfrm>
          <a:prstGeom prst="rect">
            <a:avLst/>
          </a:prstGeom>
          <a:ln w="0">
            <a:noFill/>
          </a:ln>
        </p:spPr>
      </p:pic>
      <p:sp>
        <p:nvSpPr>
          <p:cNvPr id="621" name="Rectangle 4"/>
          <p:cNvSpPr/>
          <p:nvPr/>
        </p:nvSpPr>
        <p:spPr>
          <a:xfrm>
            <a:off x="235080" y="5649840"/>
            <a:ext cx="8665920" cy="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9" descr=""/>
          <p:cNvPicPr/>
          <p:nvPr/>
        </p:nvPicPr>
        <p:blipFill>
          <a:blip r:embed="rId4"/>
          <a:stretch/>
        </p:blipFill>
        <p:spPr>
          <a:xfrm>
            <a:off x="4876920" y="1839960"/>
            <a:ext cx="1936800" cy="32868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4"/>
          <p:cNvSpPr/>
          <p:nvPr/>
        </p:nvSpPr>
        <p:spPr>
          <a:xfrm>
            <a:off x="169920" y="2087640"/>
            <a:ext cx="50878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Тази грешка е генерирана от еМС в случай, че се опитвате да запазите информация за обществена поръчка без да сте въвели данни в полетата „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Contract Number/Contract date</a:t>
            </a:r>
            <a:r>
              <a:rPr b="0" i="1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“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; </a:t>
            </a:r>
            <a:r>
              <a:rPr b="0" i="1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„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Contract Name</a:t>
            </a:r>
            <a:r>
              <a:rPr b="0" i="1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.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Системата ви позволява да създадете нови обществени поръчки, но не ви позволява да запазите информацията, която сте въвели в случай, че полето „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Contract Name</a:t>
            </a:r>
            <a:r>
              <a:rPr b="0" i="1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“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 на някоя от създадените обществени поръчки е празно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.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В тези ситуации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трябва да проверите всички обществени поръчки и да намерите тази, на която това поле е празно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.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Следователно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за да прекратите грешката, може да изтриете тази обществена поръчка, в случай, че не се нуждаете от тази информация или просто да въведете някакви данни в полето „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Contract Name</a:t>
            </a:r>
            <a:r>
              <a:rPr b="0" i="1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тогава системата ще я запази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11" descr=""/>
          <p:cNvPicPr/>
          <p:nvPr/>
        </p:nvPicPr>
        <p:blipFill>
          <a:blip r:embed="rId5"/>
          <a:stretch/>
        </p:blipFill>
        <p:spPr>
          <a:xfrm>
            <a:off x="5257800" y="2593800"/>
            <a:ext cx="3651120" cy="249732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4" descr=""/>
          <p:cNvPicPr/>
          <p:nvPr/>
        </p:nvPicPr>
        <p:blipFill>
          <a:blip r:embed="rId1"/>
          <a:stretch/>
        </p:blipFill>
        <p:spPr>
          <a:xfrm>
            <a:off x="457200" y="353880"/>
            <a:ext cx="2408400" cy="63360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5" descr=""/>
          <p:cNvPicPr/>
          <p:nvPr/>
        </p:nvPicPr>
        <p:blipFill>
          <a:blip r:embed="rId2"/>
          <a:stretch/>
        </p:blipFill>
        <p:spPr>
          <a:xfrm>
            <a:off x="387360" y="6119640"/>
            <a:ext cx="1341360" cy="60984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2" descr=""/>
          <p:cNvPicPr/>
          <p:nvPr/>
        </p:nvPicPr>
        <p:blipFill>
          <a:blip r:embed="rId3"/>
          <a:stretch/>
        </p:blipFill>
        <p:spPr>
          <a:xfrm>
            <a:off x="8381880" y="6119640"/>
            <a:ext cx="654120" cy="641520"/>
          </a:xfrm>
          <a:prstGeom prst="rect">
            <a:avLst/>
          </a:prstGeom>
          <a:ln w="0">
            <a:noFill/>
          </a:ln>
        </p:spPr>
      </p:pic>
      <p:sp>
        <p:nvSpPr>
          <p:cNvPr id="628" name="Rectangle 4"/>
          <p:cNvSpPr/>
          <p:nvPr/>
        </p:nvSpPr>
        <p:spPr>
          <a:xfrm>
            <a:off x="235080" y="5649840"/>
            <a:ext cx="8665920" cy="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ubtitle 2"/>
          <p:cNvSpPr/>
          <p:nvPr/>
        </p:nvSpPr>
        <p:spPr>
          <a:xfrm>
            <a:off x="376200" y="1986120"/>
            <a:ext cx="8458200" cy="21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Trebuchet MS"/>
                <a:ea typeface="Arial"/>
              </a:rPr>
              <a:t>Благодарим за Вашето внимание</a:t>
            </a:r>
            <a:r>
              <a:rPr b="1" i="1" lang="ro-RO" sz="2400" spc="-1" strike="noStrike">
                <a:solidFill>
                  <a:srgbClr val="000000"/>
                </a:solidFill>
                <a:latin typeface="Trebuchet MS"/>
                <a:ea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ff"/>
                </a:solidFill>
                <a:uFillTx/>
                <a:latin typeface="Trebuchet MS"/>
                <a:ea typeface="Arial"/>
                <a:hlinkClick r:id="rId4"/>
              </a:rPr>
              <a:t>www.interregrobg.eu</a:t>
            </a:r>
            <a:r>
              <a:rPr b="1" lang="ro-RO" sz="1800" spc="-1" strike="noStrike">
                <a:solidFill>
                  <a:srgbClr val="002060"/>
                </a:solidFill>
                <a:latin typeface="Trebuchet MS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1"/>
          <p:cNvSpPr/>
          <p:nvPr/>
        </p:nvSpPr>
        <p:spPr>
          <a:xfrm>
            <a:off x="1828800" y="928800"/>
            <a:ext cx="5549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300" spc="-1" strike="noStrike">
                <a:solidFill>
                  <a:srgbClr val="003366"/>
                </a:solidFill>
                <a:latin typeface="Trebuchet MS"/>
              </a:rPr>
              <a:t>    </a:t>
            </a:r>
            <a:r>
              <a:rPr b="1" lang="bg-BG" sz="2300" spc="-1" strike="noStrike">
                <a:solidFill>
                  <a:srgbClr val="003366"/>
                </a:solidFill>
                <a:latin typeface="Trebuchet MS"/>
              </a:rPr>
              <a:t>Не можем да влезем в системат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4" descr=""/>
          <p:cNvPicPr/>
          <p:nvPr/>
        </p:nvPicPr>
        <p:blipFill>
          <a:blip r:embed="rId1"/>
          <a:stretch/>
        </p:blipFill>
        <p:spPr>
          <a:xfrm>
            <a:off x="457200" y="353880"/>
            <a:ext cx="2408400" cy="6336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5" descr=""/>
          <p:cNvPicPr/>
          <p:nvPr/>
        </p:nvPicPr>
        <p:blipFill>
          <a:blip r:embed="rId2"/>
          <a:stretch/>
        </p:blipFill>
        <p:spPr>
          <a:xfrm>
            <a:off x="387360" y="6119640"/>
            <a:ext cx="1341360" cy="6098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2" descr=""/>
          <p:cNvPicPr/>
          <p:nvPr/>
        </p:nvPicPr>
        <p:blipFill>
          <a:blip r:embed="rId3"/>
          <a:stretch/>
        </p:blipFill>
        <p:spPr>
          <a:xfrm>
            <a:off x="8381880" y="6119640"/>
            <a:ext cx="654120" cy="641520"/>
          </a:xfrm>
          <a:prstGeom prst="rect">
            <a:avLst/>
          </a:prstGeom>
          <a:ln w="0">
            <a:noFill/>
          </a:ln>
        </p:spPr>
      </p:pic>
      <p:sp>
        <p:nvSpPr>
          <p:cNvPr id="555" name="TextBox 14"/>
          <p:cNvSpPr/>
          <p:nvPr/>
        </p:nvSpPr>
        <p:spPr>
          <a:xfrm>
            <a:off x="484200" y="2924280"/>
            <a:ext cx="8051760" cy="1067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cad9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Потребителят не е влизал в системата за дълъг период от време (месеци)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еМС деактивира профили, които не са били използвани за дълъг период от време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В тези ситуации, Вие трябва да се свържете със Съвместният Секретариат, за да активират профила Ви нанов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20"/>
          <p:cNvSpPr/>
          <p:nvPr/>
        </p:nvSpPr>
        <p:spPr>
          <a:xfrm>
            <a:off x="479520" y="1511280"/>
            <a:ext cx="8053200" cy="131076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cad9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Потребителят е написал паролата грешно много пъти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.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В този случай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потребителят трябва да изчака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60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минути преди да се опита да влезе отново в системата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.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В случай, че сте забравили паролата, може да я промените натискайки бутона от началната страница               и да следвате стъпките за нейната промя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33" descr=""/>
          <p:cNvPicPr/>
          <p:nvPr/>
        </p:nvPicPr>
        <p:blipFill>
          <a:blip r:embed="rId4"/>
          <a:stretch/>
        </p:blipFill>
        <p:spPr>
          <a:xfrm>
            <a:off x="4724280" y="2327400"/>
            <a:ext cx="1067040" cy="21888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21"/>
          <p:cNvSpPr/>
          <p:nvPr/>
        </p:nvSpPr>
        <p:spPr>
          <a:xfrm>
            <a:off x="479520" y="4056120"/>
            <a:ext cx="8039160" cy="82404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cad9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Потребителското име е написано грешно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.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Най-честата грешка е да влезеш в системата със своя имейл адрес вместо с потребителското име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.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Подсигурете се, че сте написали правилното потребителско име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2"/>
          <p:cNvSpPr/>
          <p:nvPr/>
        </p:nvSpPr>
        <p:spPr>
          <a:xfrm>
            <a:off x="468360" y="4976640"/>
            <a:ext cx="8064360" cy="116964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cad9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Потребителят се опитва да влезе в друга платформа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.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Това може да е проблем за бенефициентите изпълняващи проекти по различни Програми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.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Подсигурете се, че влизате на правилния интернет адрес/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url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rebuchet MS"/>
                <a:ea typeface="Calibri"/>
                <a:hlinkClick r:id="rId5"/>
              </a:rPr>
              <a:t>https://ems-robg.mdrap.ro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1"/>
          <p:cNvSpPr/>
          <p:nvPr/>
        </p:nvSpPr>
        <p:spPr>
          <a:xfrm>
            <a:off x="1828800" y="987480"/>
            <a:ext cx="60958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300" spc="-1" strike="noStrike">
                <a:solidFill>
                  <a:srgbClr val="003366"/>
                </a:solidFill>
                <a:latin typeface="Trebuchet MS"/>
              </a:rPr>
              <a:t>Искаме да променим потребителя на Водещият партньор</a:t>
            </a:r>
            <a:r>
              <a:rPr b="1" lang="en-US" sz="2300" spc="-1" strike="noStrike">
                <a:solidFill>
                  <a:srgbClr val="003366"/>
                </a:solidFill>
                <a:latin typeface="Trebuchet MS"/>
              </a:rPr>
              <a:t> (Lead Partne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4" descr=""/>
          <p:cNvPicPr/>
          <p:nvPr/>
        </p:nvPicPr>
        <p:blipFill>
          <a:blip r:embed="rId1"/>
          <a:stretch/>
        </p:blipFill>
        <p:spPr>
          <a:xfrm>
            <a:off x="457200" y="353880"/>
            <a:ext cx="2408400" cy="6336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5" descr=""/>
          <p:cNvPicPr/>
          <p:nvPr/>
        </p:nvPicPr>
        <p:blipFill>
          <a:blip r:embed="rId2"/>
          <a:stretch/>
        </p:blipFill>
        <p:spPr>
          <a:xfrm>
            <a:off x="387360" y="6119640"/>
            <a:ext cx="1341360" cy="6098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2" descr=""/>
          <p:cNvPicPr/>
          <p:nvPr/>
        </p:nvPicPr>
        <p:blipFill>
          <a:blip r:embed="rId3"/>
          <a:stretch/>
        </p:blipFill>
        <p:spPr>
          <a:xfrm>
            <a:off x="8381880" y="6119640"/>
            <a:ext cx="654120" cy="6415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2" descr=""/>
          <p:cNvPicPr/>
          <p:nvPr/>
        </p:nvPicPr>
        <p:blipFill>
          <a:blip r:embed="rId4"/>
          <a:stretch/>
        </p:blipFill>
        <p:spPr>
          <a:xfrm>
            <a:off x="228600" y="1879560"/>
            <a:ext cx="8763120" cy="229716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3"/>
          <p:cNvSpPr/>
          <p:nvPr/>
        </p:nvSpPr>
        <p:spPr>
          <a:xfrm>
            <a:off x="228600" y="4176720"/>
            <a:ext cx="87980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Формуляра за кандидатстване – </a:t>
            </a:r>
            <a:r>
              <a:rPr b="0" lang="bg-BG" sz="1600" spc="-1" strike="noStrike" u="sng">
                <a:solidFill>
                  <a:srgbClr val="000000"/>
                </a:solidFill>
                <a:uFillTx/>
                <a:latin typeface="Trebuchet MS"/>
                <a:ea typeface="Calibri"/>
              </a:rPr>
              <a:t>апликационната форма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 е предаден в системата на потребителя на Водещия партньор още на фаза договориране на проекта, преди подписване на договора за финансиране. Този потребител има възможността да иска промяна на апликационната форма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това е единствения потребител, който може да й прави промени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може да създава и попълва Проектни Доклади и да прави промени в секция „Допълнителна информация“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 (Supplementary information)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. Затова е важно да сте сигурни, че Водещият партньор иска тази промяна, следователно се изисква да изпрати официално писмо подписано от легалния представител отнасяйки се до тази промя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1"/>
          <p:cNvSpPr/>
          <p:nvPr/>
        </p:nvSpPr>
        <p:spPr>
          <a:xfrm>
            <a:off x="914400" y="1017720"/>
            <a:ext cx="7478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300" spc="-1" strike="noStrike">
                <a:solidFill>
                  <a:srgbClr val="003366"/>
                </a:solidFill>
                <a:latin typeface="Trebuchet MS"/>
              </a:rPr>
              <a:t>Как да предоставя достъп в еМС на партньорите в проекта</a:t>
            </a:r>
            <a:r>
              <a:rPr b="1" lang="en-US" sz="2300" spc="-1" strike="noStrike">
                <a:solidFill>
                  <a:srgbClr val="003366"/>
                </a:solidFill>
                <a:latin typeface="Trebuchet MS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4" descr=""/>
          <p:cNvPicPr/>
          <p:nvPr/>
        </p:nvPicPr>
        <p:blipFill>
          <a:blip r:embed="rId1"/>
          <a:stretch/>
        </p:blipFill>
        <p:spPr>
          <a:xfrm>
            <a:off x="457200" y="353880"/>
            <a:ext cx="2408400" cy="6336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5" descr=""/>
          <p:cNvPicPr/>
          <p:nvPr/>
        </p:nvPicPr>
        <p:blipFill>
          <a:blip r:embed="rId2"/>
          <a:stretch/>
        </p:blipFill>
        <p:spPr>
          <a:xfrm>
            <a:off x="387360" y="6119640"/>
            <a:ext cx="1341360" cy="6098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" descr=""/>
          <p:cNvPicPr/>
          <p:nvPr/>
        </p:nvPicPr>
        <p:blipFill>
          <a:blip r:embed="rId3"/>
          <a:stretch/>
        </p:blipFill>
        <p:spPr>
          <a:xfrm>
            <a:off x="8381880" y="6119640"/>
            <a:ext cx="654120" cy="64152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3"/>
          <p:cNvSpPr/>
          <p:nvPr/>
        </p:nvSpPr>
        <p:spPr>
          <a:xfrm>
            <a:off x="533520" y="178128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Единствения потребител, който може да извършва това действие в системата е Водещият партньор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 (Lead Partner)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.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4" descr=""/>
          <p:cNvPicPr/>
          <p:nvPr/>
        </p:nvPicPr>
        <p:blipFill>
          <a:blip r:embed="rId4"/>
          <a:stretch/>
        </p:blipFill>
        <p:spPr>
          <a:xfrm>
            <a:off x="609480" y="2629080"/>
            <a:ext cx="7848720" cy="3490560"/>
          </a:xfrm>
          <a:prstGeom prst="rect">
            <a:avLst/>
          </a:prstGeom>
          <a:ln w="0">
            <a:noFill/>
          </a:ln>
        </p:spPr>
      </p:pic>
      <p:sp>
        <p:nvSpPr>
          <p:cNvPr id="572" name="Rectangle 5"/>
          <p:cNvSpPr/>
          <p:nvPr/>
        </p:nvSpPr>
        <p:spPr>
          <a:xfrm>
            <a:off x="1600200" y="2365200"/>
            <a:ext cx="664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Урок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/ tutorial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rebuchet MS"/>
                <a:ea typeface="Calibri"/>
                <a:hlinkClick r:id="rId5"/>
              </a:rPr>
              <a:t>https://www.youtube.com/watch?v=MryLtFjyJ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1"/>
          <p:cNvSpPr/>
          <p:nvPr/>
        </p:nvSpPr>
        <p:spPr>
          <a:xfrm>
            <a:off x="433440" y="1365120"/>
            <a:ext cx="830592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300" spc="-1" strike="noStrike">
                <a:solidFill>
                  <a:srgbClr val="003366"/>
                </a:solidFill>
                <a:latin typeface="Trebuchet MS"/>
              </a:rPr>
              <a:t>По време на искане за промяна</a:t>
            </a:r>
            <a:r>
              <a:rPr b="1" lang="en-US" sz="2300" spc="-1" strike="noStrike">
                <a:solidFill>
                  <a:srgbClr val="003366"/>
                </a:solidFill>
                <a:latin typeface="Trebuchet MS"/>
              </a:rPr>
              <a:t> (Modification request)</a:t>
            </a:r>
            <a:r>
              <a:rPr b="1" lang="bg-BG" sz="2300" spc="-1" strike="noStrike">
                <a:solidFill>
                  <a:srgbClr val="003366"/>
                </a:solidFill>
                <a:latin typeface="Trebuchet MS"/>
              </a:rPr>
              <a:t> трябва да изтрия доставка на услуга/ оборудване (</a:t>
            </a:r>
            <a:r>
              <a:rPr b="1" lang="en-US" sz="2300" spc="-1" strike="noStrike">
                <a:solidFill>
                  <a:srgbClr val="003366"/>
                </a:solidFill>
                <a:latin typeface="Trebuchet MS"/>
              </a:rPr>
              <a:t>deliverable</a:t>
            </a:r>
            <a:r>
              <a:rPr b="1" lang="bg-BG" sz="2300" spc="-1" strike="noStrike">
                <a:solidFill>
                  <a:srgbClr val="003366"/>
                </a:solidFill>
                <a:latin typeface="Trebuchet MS"/>
              </a:rPr>
              <a:t>)</a:t>
            </a:r>
            <a:r>
              <a:rPr b="1" lang="en-US" sz="2300" spc="-1" strike="noStrike">
                <a:solidFill>
                  <a:srgbClr val="003366"/>
                </a:solidFill>
                <a:latin typeface="Trebuchet MS"/>
              </a:rPr>
              <a:t> </a:t>
            </a:r>
            <a:r>
              <a:rPr b="1" lang="bg-BG" sz="2300" spc="-1" strike="noStrike">
                <a:solidFill>
                  <a:srgbClr val="003366"/>
                </a:solidFill>
                <a:latin typeface="Trebuchet MS"/>
              </a:rPr>
              <a:t>от апликационната форма</a:t>
            </a:r>
            <a:r>
              <a:rPr b="1" lang="en-US" sz="2300" spc="-1" strike="noStrike">
                <a:solidFill>
                  <a:srgbClr val="003366"/>
                </a:solidFill>
                <a:latin typeface="Trebuchet MS"/>
              </a:rPr>
              <a:t>, </a:t>
            </a:r>
            <a:r>
              <a:rPr b="1" lang="bg-BG" sz="2300" spc="-1" strike="noStrike">
                <a:solidFill>
                  <a:srgbClr val="003366"/>
                </a:solidFill>
                <a:latin typeface="Trebuchet MS"/>
              </a:rPr>
              <a:t>но еМС не ми позволява това действие</a:t>
            </a:r>
            <a:r>
              <a:rPr b="1" lang="en-US" sz="2300" spc="-1" strike="noStrike">
                <a:solidFill>
                  <a:srgbClr val="003366"/>
                </a:solidFill>
                <a:latin typeface="Trebuchet MS"/>
              </a:rPr>
              <a:t>. </a:t>
            </a:r>
            <a:r>
              <a:rPr b="1" lang="bg-BG" sz="2300" spc="-1" strike="noStrike">
                <a:solidFill>
                  <a:srgbClr val="003366"/>
                </a:solidFill>
                <a:latin typeface="Trebuchet MS"/>
              </a:rPr>
              <a:t>Как мога да изтрия тази </a:t>
            </a:r>
            <a:r>
              <a:rPr b="1" lang="ru-RU" sz="2300" spc="-1" strike="noStrike">
                <a:solidFill>
                  <a:srgbClr val="003366"/>
                </a:solidFill>
                <a:latin typeface="Trebuchet MS"/>
              </a:rPr>
              <a:t>доставка на услуга/ оборудване (</a:t>
            </a:r>
            <a:r>
              <a:rPr b="1" lang="en-US" sz="2300" spc="-1" strike="noStrike">
                <a:solidFill>
                  <a:srgbClr val="003366"/>
                </a:solidFill>
                <a:latin typeface="Trebuchet MS"/>
              </a:rPr>
              <a:t>deliverable</a:t>
            </a:r>
            <a:r>
              <a:rPr b="1" lang="bg-BG" sz="2300" spc="-1" strike="noStrike">
                <a:solidFill>
                  <a:srgbClr val="003366"/>
                </a:solidFill>
                <a:latin typeface="Trebuchet MS"/>
              </a:rPr>
              <a:t>)</a:t>
            </a:r>
            <a:r>
              <a:rPr b="1" lang="en-US" sz="2300" spc="-1" strike="noStrike">
                <a:solidFill>
                  <a:srgbClr val="003366"/>
                </a:solidFill>
                <a:latin typeface="Trebuchet MS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4" descr=""/>
          <p:cNvPicPr/>
          <p:nvPr/>
        </p:nvPicPr>
        <p:blipFill>
          <a:blip r:embed="rId1"/>
          <a:stretch/>
        </p:blipFill>
        <p:spPr>
          <a:xfrm>
            <a:off x="457200" y="353880"/>
            <a:ext cx="2408400" cy="63360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5" descr=""/>
          <p:cNvPicPr/>
          <p:nvPr/>
        </p:nvPicPr>
        <p:blipFill>
          <a:blip r:embed="rId2"/>
          <a:stretch/>
        </p:blipFill>
        <p:spPr>
          <a:xfrm>
            <a:off x="387360" y="6119640"/>
            <a:ext cx="1341360" cy="60984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2" descr=""/>
          <p:cNvPicPr/>
          <p:nvPr/>
        </p:nvPicPr>
        <p:blipFill>
          <a:blip r:embed="rId3"/>
          <a:stretch/>
        </p:blipFill>
        <p:spPr>
          <a:xfrm>
            <a:off x="8381880" y="6119640"/>
            <a:ext cx="654120" cy="641520"/>
          </a:xfrm>
          <a:prstGeom prst="rect">
            <a:avLst/>
          </a:prstGeom>
          <a:ln w="0">
            <a:noFill/>
          </a:ln>
        </p:spPr>
      </p:pic>
      <p:sp>
        <p:nvSpPr>
          <p:cNvPr id="577" name="Rectangle 3"/>
          <p:cNvSpPr/>
          <p:nvPr/>
        </p:nvSpPr>
        <p:spPr>
          <a:xfrm>
            <a:off x="519120" y="3406680"/>
            <a:ext cx="83818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Ако има създаден Проектен Доклад за този проект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доставки на услуги/ оборудване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deliverables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и дейностите от апликационната форма не могат да бъдат изтрити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защото те са свързани с този доклад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независимо от факта, че техния статус е „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started/ not started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“ – започнал/ не е започнал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.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В тази ситуация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решението е да се изтрие цялата информация отнасяща се до съответната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доставка на услуга/ оборудване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deliverable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и да се замести със следния текст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: „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Not applicable anymore from AF version X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”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 – Вече не е приложимо от апликационна форма версия 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235080" y="5649840"/>
            <a:ext cx="8665920" cy="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1"/>
          <p:cNvSpPr/>
          <p:nvPr/>
        </p:nvSpPr>
        <p:spPr>
          <a:xfrm>
            <a:off x="403200" y="1009800"/>
            <a:ext cx="83059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300" spc="-1" strike="noStrike">
                <a:solidFill>
                  <a:srgbClr val="003366"/>
                </a:solidFill>
                <a:latin typeface="Trebuchet MS"/>
              </a:rPr>
              <a:t>Промених крайната дата на проекта, какво друго трябва да променя в апликационната форма</a:t>
            </a:r>
            <a:r>
              <a:rPr b="1" lang="en-US" sz="2300" spc="-1" strike="noStrike">
                <a:solidFill>
                  <a:srgbClr val="003366"/>
                </a:solidFill>
                <a:latin typeface="Trebuchet MS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1"/>
          <a:stretch/>
        </p:blipFill>
        <p:spPr>
          <a:xfrm>
            <a:off x="457200" y="353880"/>
            <a:ext cx="2408400" cy="6336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5" descr=""/>
          <p:cNvPicPr/>
          <p:nvPr/>
        </p:nvPicPr>
        <p:blipFill>
          <a:blip r:embed="rId2"/>
          <a:stretch/>
        </p:blipFill>
        <p:spPr>
          <a:xfrm>
            <a:off x="387360" y="6119640"/>
            <a:ext cx="1341360" cy="6098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2" descr=""/>
          <p:cNvPicPr/>
          <p:nvPr/>
        </p:nvPicPr>
        <p:blipFill>
          <a:blip r:embed="rId3"/>
          <a:stretch/>
        </p:blipFill>
        <p:spPr>
          <a:xfrm>
            <a:off x="8381880" y="6119640"/>
            <a:ext cx="654120" cy="64152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3"/>
          <p:cNvSpPr/>
          <p:nvPr/>
        </p:nvSpPr>
        <p:spPr>
          <a:xfrm>
            <a:off x="119160" y="2122560"/>
            <a:ext cx="87501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За първата и втората покана за проектни предложения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проектите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бяха изпращани на хартия и вкарани в еМС от Съвместния Секретариат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.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За проектите от тези покани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периодите на докладване могат да се променят в еМС от бенефициентите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.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Съгласно одобрения Наръчник за изпълнение на проектите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 (PIM)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напредъка на дейностите трябва да се докладва на всеки 6 месеца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и следвайки тази логика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периодите на докладване трябва да се формират в системата на всеки 6 месеца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.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Следователно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в случай че периода на изпълнение се удължи, водещият партньор трябва да промени периодите следвайки този принцип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в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секция „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Workplan - Define periods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235080" y="5649840"/>
            <a:ext cx="8665920" cy="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8"/>
          <p:cNvSpPr/>
          <p:nvPr/>
        </p:nvSpPr>
        <p:spPr>
          <a:xfrm>
            <a:off x="838080" y="183348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1. </a:t>
            </a:r>
            <a:r>
              <a:rPr b="1" lang="bg-BG" sz="1800" spc="-1" strike="noStrike">
                <a:solidFill>
                  <a:srgbClr val="003366"/>
                </a:solidFill>
                <a:latin typeface="Trebuchet MS"/>
              </a:rPr>
              <a:t>Периоди на докладване </a:t>
            </a: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(</a:t>
            </a:r>
            <a:r>
              <a:rPr b="1" lang="bg-BG" sz="1800" spc="-1" strike="noStrike">
                <a:solidFill>
                  <a:srgbClr val="003366"/>
                </a:solidFill>
                <a:latin typeface="Trebuchet MS"/>
              </a:rPr>
              <a:t>секция „</a:t>
            </a: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Define periods</a:t>
            </a:r>
            <a:r>
              <a:rPr b="1" lang="bg-BG" sz="1800" spc="-1" strike="noStrike">
                <a:solidFill>
                  <a:srgbClr val="003366"/>
                </a:solidFill>
                <a:latin typeface="Trebuchet MS"/>
              </a:rPr>
              <a:t>“</a:t>
            </a: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119160" y="4184640"/>
            <a:ext cx="8781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В случай, че проекта е изпратен по третата покана за проектни предложения, периодите на докладване автоматично се създават от системата на всеки три месеца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като се взима в предвид начална и крайна дата на проекта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.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Следователно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в тази ситуация водещия партньор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(LB)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не може да променя периодите на докладване в секция „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Workplan - Define periods</a:t>
            </a:r>
            <a:r>
              <a:rPr b="0" i="1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.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Въпреки това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след промяна на крайната дата на проекта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водещият партньор (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LB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трябва да натисне бутон „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Recreate Periods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“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на долния край на секция „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Define periods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11" descr=""/>
          <p:cNvPicPr/>
          <p:nvPr/>
        </p:nvPicPr>
        <p:blipFill>
          <a:blip r:embed="rId4"/>
          <a:stretch/>
        </p:blipFill>
        <p:spPr>
          <a:xfrm>
            <a:off x="2077920" y="5807160"/>
            <a:ext cx="5318280" cy="74592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457200" y="353880"/>
            <a:ext cx="2408400" cy="63360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5" descr=""/>
          <p:cNvPicPr/>
          <p:nvPr/>
        </p:nvPicPr>
        <p:blipFill>
          <a:blip r:embed="rId2"/>
          <a:stretch/>
        </p:blipFill>
        <p:spPr>
          <a:xfrm>
            <a:off x="387360" y="6119640"/>
            <a:ext cx="1341360" cy="60984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2" descr=""/>
          <p:cNvPicPr/>
          <p:nvPr/>
        </p:nvPicPr>
        <p:blipFill>
          <a:blip r:embed="rId3"/>
          <a:stretch/>
        </p:blipFill>
        <p:spPr>
          <a:xfrm>
            <a:off x="8381880" y="6119640"/>
            <a:ext cx="654120" cy="64152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4"/>
          <p:cNvSpPr/>
          <p:nvPr/>
        </p:nvSpPr>
        <p:spPr>
          <a:xfrm>
            <a:off x="235080" y="5649840"/>
            <a:ext cx="8665920" cy="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8"/>
          <p:cNvSpPr/>
          <p:nvPr/>
        </p:nvSpPr>
        <p:spPr>
          <a:xfrm>
            <a:off x="685800" y="12952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2. </a:t>
            </a:r>
            <a:r>
              <a:rPr b="1" lang="bg-BG" sz="1800" spc="-1" strike="noStrike">
                <a:solidFill>
                  <a:srgbClr val="003366"/>
                </a:solidFill>
                <a:latin typeface="Trebuchet MS"/>
              </a:rPr>
              <a:t>Работен план (</a:t>
            </a: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Workplan</a:t>
            </a:r>
            <a:r>
              <a:rPr b="1" lang="bg-BG" sz="1800" spc="-1" strike="noStrike">
                <a:solidFill>
                  <a:srgbClr val="003366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2" descr=""/>
          <p:cNvPicPr/>
          <p:nvPr/>
        </p:nvPicPr>
        <p:blipFill>
          <a:blip r:embed="rId4"/>
          <a:stretch/>
        </p:blipFill>
        <p:spPr>
          <a:xfrm>
            <a:off x="169920" y="4430880"/>
            <a:ext cx="8866080" cy="10746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4" descr=""/>
          <p:cNvPicPr/>
          <p:nvPr/>
        </p:nvPicPr>
        <p:blipFill>
          <a:blip r:embed="rId5"/>
          <a:stretch/>
        </p:blipFill>
        <p:spPr>
          <a:xfrm>
            <a:off x="133200" y="2340000"/>
            <a:ext cx="8867880" cy="92088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12"/>
          <p:cNvSpPr/>
          <p:nvPr/>
        </p:nvSpPr>
        <p:spPr>
          <a:xfrm>
            <a:off x="484200" y="1852560"/>
            <a:ext cx="721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3366"/>
                </a:solidFill>
                <a:latin typeface="Trebuchet MS"/>
              </a:rPr>
              <a:t>Крайна дата на</a:t>
            </a: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 </a:t>
            </a:r>
            <a:r>
              <a:rPr b="1" lang="bg-BG" sz="1800" spc="-1" strike="noStrike">
                <a:solidFill>
                  <a:srgbClr val="003366"/>
                </a:solidFill>
                <a:latin typeface="Trebuchet MS"/>
              </a:rPr>
              <a:t>изходните индикатори </a:t>
            </a: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(outpu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13"/>
          <p:cNvSpPr/>
          <p:nvPr/>
        </p:nvSpPr>
        <p:spPr>
          <a:xfrm>
            <a:off x="490680" y="352260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3366"/>
                </a:solidFill>
                <a:latin typeface="Trebuchet MS"/>
              </a:rPr>
              <a:t>Крайна дата за всяка дейност и крайна дата за всяка доставка на услуга/ оборудване (</a:t>
            </a: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deliverable</a:t>
            </a:r>
            <a:r>
              <a:rPr b="1" lang="bg-BG" sz="1800" spc="-1" strike="noStrike">
                <a:solidFill>
                  <a:srgbClr val="003366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1"/>
          <p:cNvSpPr/>
          <p:nvPr/>
        </p:nvSpPr>
        <p:spPr>
          <a:xfrm>
            <a:off x="457200" y="1066680"/>
            <a:ext cx="83059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300" spc="-1" strike="noStrike">
                <a:solidFill>
                  <a:srgbClr val="003366"/>
                </a:solidFill>
                <a:latin typeface="Trebuchet MS"/>
              </a:rPr>
              <a:t>Искам да създам нов Проектен доклад, но нямам тази опция</a:t>
            </a:r>
            <a:r>
              <a:rPr b="1" lang="en-US" sz="2300" spc="-1" strike="noStrike">
                <a:solidFill>
                  <a:srgbClr val="003366"/>
                </a:solidFill>
                <a:latin typeface="Trebuchet MS"/>
              </a:rPr>
              <a:t>. </a:t>
            </a:r>
            <a:r>
              <a:rPr b="1" lang="bg-BG" sz="2300" spc="-1" strike="noStrike">
                <a:solidFill>
                  <a:srgbClr val="003366"/>
                </a:solidFill>
                <a:latin typeface="Trebuchet MS"/>
              </a:rPr>
              <a:t>Какво трябва да направя</a:t>
            </a:r>
            <a:r>
              <a:rPr b="1" lang="en-US" sz="2300" spc="-1" strike="noStrike">
                <a:solidFill>
                  <a:srgbClr val="003366"/>
                </a:solidFill>
                <a:latin typeface="Trebuchet MS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4" descr=""/>
          <p:cNvPicPr/>
          <p:nvPr/>
        </p:nvPicPr>
        <p:blipFill>
          <a:blip r:embed="rId1"/>
          <a:stretch/>
        </p:blipFill>
        <p:spPr>
          <a:xfrm>
            <a:off x="457200" y="353880"/>
            <a:ext cx="2408400" cy="6336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5" descr=""/>
          <p:cNvPicPr/>
          <p:nvPr/>
        </p:nvPicPr>
        <p:blipFill>
          <a:blip r:embed="rId2"/>
          <a:stretch/>
        </p:blipFill>
        <p:spPr>
          <a:xfrm>
            <a:off x="387360" y="6119640"/>
            <a:ext cx="1341360" cy="6098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2" descr=""/>
          <p:cNvPicPr/>
          <p:nvPr/>
        </p:nvPicPr>
        <p:blipFill>
          <a:blip r:embed="rId3"/>
          <a:stretch/>
        </p:blipFill>
        <p:spPr>
          <a:xfrm>
            <a:off x="8381880" y="6119640"/>
            <a:ext cx="654120" cy="641520"/>
          </a:xfrm>
          <a:prstGeom prst="rect">
            <a:avLst/>
          </a:prstGeom>
          <a:ln w="0">
            <a:noFill/>
          </a:ln>
        </p:spPr>
      </p:pic>
      <p:sp>
        <p:nvSpPr>
          <p:cNvPr id="601" name="Rectangle 3"/>
          <p:cNvSpPr/>
          <p:nvPr/>
        </p:nvSpPr>
        <p:spPr>
          <a:xfrm>
            <a:off x="208080" y="1812960"/>
            <a:ext cx="880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Не можете да видите буто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create button”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, защото имате друг доклад в прогрес (не изпратен към СС/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S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). В този случай, първо трябва да идентифицирате този доклад и да решите дали да го завършите или той може да бъде изтри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Ако искате да завършите този доклад, ще имате опцията да създадете нов доклад само след като изпратите тоз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Ако доклада в прогрес може да бъде изтрит, тук могат да възникна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два вида ситу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4"/>
          <p:cNvSpPr/>
          <p:nvPr/>
        </p:nvSpPr>
        <p:spPr>
          <a:xfrm>
            <a:off x="209520" y="3567240"/>
            <a:ext cx="8705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1.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Доклада никога не е бил изпращан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статусът под полето „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Date Of Project Report First Submission</a:t>
            </a:r>
            <a:r>
              <a:rPr b="0" i="1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“ 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трябва да е в прогрес (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In Progress</a:t>
            </a:r>
            <a:r>
              <a:rPr b="0" i="1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)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 –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това означава, че той може да бъде изтрит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8" descr=""/>
          <p:cNvPicPr/>
          <p:nvPr/>
        </p:nvPicPr>
        <p:blipFill>
          <a:blip r:embed="rId4"/>
          <a:stretch/>
        </p:blipFill>
        <p:spPr>
          <a:xfrm>
            <a:off x="447840" y="4489560"/>
            <a:ext cx="8086680" cy="1872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9" descr=""/>
          <p:cNvPicPr/>
          <p:nvPr/>
        </p:nvPicPr>
        <p:blipFill>
          <a:blip r:embed="rId5"/>
          <a:stretch/>
        </p:blipFill>
        <p:spPr>
          <a:xfrm>
            <a:off x="447840" y="4672080"/>
            <a:ext cx="8076960" cy="26964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5"/>
          <p:cNvSpPr/>
          <p:nvPr/>
        </p:nvSpPr>
        <p:spPr>
          <a:xfrm>
            <a:off x="304920" y="5059440"/>
            <a:ext cx="853416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2.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Доклада първоначално е бил изпратен, но е бил върнат от СС/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JS.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В тази ситуация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нямате опцията да изтриете доклада и трябва да поискате това от СС/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J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20" descr=""/>
          <p:cNvPicPr/>
          <p:nvPr/>
        </p:nvPicPr>
        <p:blipFill>
          <a:blip r:embed="rId6"/>
          <a:stretch/>
        </p:blipFill>
        <p:spPr>
          <a:xfrm>
            <a:off x="484200" y="5708520"/>
            <a:ext cx="8097840" cy="1778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" descr=""/>
          <p:cNvPicPr/>
          <p:nvPr/>
        </p:nvPicPr>
        <p:blipFill>
          <a:blip r:embed="rId7"/>
          <a:stretch/>
        </p:blipFill>
        <p:spPr>
          <a:xfrm>
            <a:off x="473040" y="5886360"/>
            <a:ext cx="8099640" cy="177840"/>
          </a:xfrm>
          <a:prstGeom prst="rect">
            <a:avLst/>
          </a:prstGeom>
          <a:ln w="0">
            <a:noFill/>
          </a:ln>
        </p:spPr>
      </p:pic>
      <p:sp>
        <p:nvSpPr>
          <p:cNvPr id="608" name="Rectangle 4"/>
          <p:cNvSpPr/>
          <p:nvPr/>
        </p:nvSpPr>
        <p:spPr>
          <a:xfrm>
            <a:off x="235080" y="5649840"/>
            <a:ext cx="8665920" cy="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1"/>
          <p:cNvSpPr/>
          <p:nvPr/>
        </p:nvSpPr>
        <p:spPr>
          <a:xfrm>
            <a:off x="457200" y="1066680"/>
            <a:ext cx="83059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300" spc="-1" strike="noStrike">
                <a:solidFill>
                  <a:srgbClr val="003366"/>
                </a:solidFill>
                <a:latin typeface="Trebuchet MS"/>
              </a:rPr>
              <a:t>Опитвам се да изпратя партньорски доклад, но получавам следната грешк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4" descr=""/>
          <p:cNvPicPr/>
          <p:nvPr/>
        </p:nvPicPr>
        <p:blipFill>
          <a:blip r:embed="rId1"/>
          <a:stretch/>
        </p:blipFill>
        <p:spPr>
          <a:xfrm>
            <a:off x="457200" y="353880"/>
            <a:ext cx="2408400" cy="6336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5" descr=""/>
          <p:cNvPicPr/>
          <p:nvPr/>
        </p:nvPicPr>
        <p:blipFill>
          <a:blip r:embed="rId2"/>
          <a:stretch/>
        </p:blipFill>
        <p:spPr>
          <a:xfrm>
            <a:off x="387360" y="6119640"/>
            <a:ext cx="1341360" cy="6098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" descr=""/>
          <p:cNvPicPr/>
          <p:nvPr/>
        </p:nvPicPr>
        <p:blipFill>
          <a:blip r:embed="rId3"/>
          <a:stretch/>
        </p:blipFill>
        <p:spPr>
          <a:xfrm>
            <a:off x="8381880" y="6119640"/>
            <a:ext cx="654120" cy="641520"/>
          </a:xfrm>
          <a:prstGeom prst="rect">
            <a:avLst/>
          </a:prstGeom>
          <a:ln w="0">
            <a:noFill/>
          </a:ln>
        </p:spPr>
      </p:pic>
      <p:sp>
        <p:nvSpPr>
          <p:cNvPr id="613" name="Rectangle 3"/>
          <p:cNvSpPr/>
          <p:nvPr/>
        </p:nvSpPr>
        <p:spPr>
          <a:xfrm>
            <a:off x="235080" y="1914480"/>
            <a:ext cx="8665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Когато попълвате партньорски доклад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след вкарването на разходите в Списъка на разходите (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LoE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трябва винаги да попълвате секция „Принос и прогноза“ (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Contribution and Forecast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.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В противен случай системата ще генерира тази грешка, когато натиснете бут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o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на за проверка на доклада (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check report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.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Когато попълвате тази секция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реално разходеното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 +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прогнозата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трябва да равнят на общата сума на допустимия бюджет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235080" y="5649840"/>
            <a:ext cx="8665920" cy="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13" descr=""/>
          <p:cNvPicPr/>
          <p:nvPr/>
        </p:nvPicPr>
        <p:blipFill>
          <a:blip r:embed="rId4"/>
          <a:stretch/>
        </p:blipFill>
        <p:spPr>
          <a:xfrm>
            <a:off x="4724280" y="1528920"/>
            <a:ext cx="3535560" cy="3618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" descr=""/>
          <p:cNvPicPr/>
          <p:nvPr/>
        </p:nvPicPr>
        <p:blipFill>
          <a:blip r:embed="rId5"/>
          <a:stretch/>
        </p:blipFill>
        <p:spPr>
          <a:xfrm>
            <a:off x="714240" y="3286080"/>
            <a:ext cx="7791480" cy="280980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3:10:07Z</dcterms:created>
  <dc:creator>eliza.pisica</dc:creator>
  <dc:description/>
  <dc:language>en-US</dc:language>
  <cp:lastModifiedBy>Slavena ZHELEVA</cp:lastModifiedBy>
  <cp:lastPrinted>2020-06-30T12:14:09Z</cp:lastPrinted>
  <dcterms:modified xsi:type="dcterms:W3CDTF">2021-11-03T12:46:38Z</dcterms:modified>
  <cp:revision>613</cp:revision>
  <dc:subject/>
  <dc:title>Slide 1</dc:title>
</cp:coreProperties>
</file>